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notesSlide25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F1BF-2230-49EA-AE3E-161A34260B6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8A68-DCF5-4B4A-A333-8F3464C63CC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336C-21BE-4257-94BF-C8410A06E3EA}" type="slidenum">
              <a:rPr b="0" lang="hu-H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A21B-480E-429B-81B8-B920A608497D}" type="slidenum">
              <a:rPr b="0" lang="hu-H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3E7-60C0-4C0B-AFA1-CC9D1FF8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F17-C926-4E69-8854-68029832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AAE-F0CA-457F-AD1D-81B32578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F0E-0D85-42F5-9919-0EBE48D0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8A5-0157-42FA-BAE6-AB00C478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DDA-4260-4153-9051-F14EED88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3AB7-435F-4AFF-B963-0D1E3CAF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033-A6D0-4D64-A876-00CC2A7B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2965-7795-4627-88B8-DF803211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CB4-4408-4DF5-8C15-A019BE91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7EB3-1CDB-40E0-AFC5-20B5F2F4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5B1-7DDE-45B1-8AF0-5DDE8357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99FC-B45A-4603-9C05-FD86349F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A30B-B4C7-4398-81CE-359D493B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04BD-66E9-408E-8ADA-1AF37637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18EE-FED3-41A1-8373-73A503F3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2C7C-8834-45B5-9559-34A60D33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A108-D952-49B3-B30D-8A4D20B9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61F0-68EE-4408-B222-531E9766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2603-E5CB-45DB-B485-6A92586B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2626-748C-431D-BE4E-446699D2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8185-24A6-4268-B90F-AA2FDAAA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7CD7-28AD-4C53-B7CE-F36BD4DB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4405-1396-4175-B2B9-B1F46540C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360360" y="479520"/>
            <a:ext cx="2700360" cy="5898960"/>
          </a:xfrm>
          <a:prstGeom prst="rect">
            <a:avLst/>
          </a:prstGeom>
          <a:solidFill>
            <a:srgbClr val="2b8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6076800" y="479520"/>
            <a:ext cx="2700360" cy="5898960"/>
          </a:xfrm>
          <a:prstGeom prst="rect">
            <a:avLst/>
          </a:prstGeom>
          <a:solidFill>
            <a:srgbClr val="2b8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8f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6"/>
          <p:cNvSpPr/>
          <p:nvPr/>
        </p:nvSpPr>
        <p:spPr>
          <a:xfrm>
            <a:off x="2303640" y="2468520"/>
            <a:ext cx="2232000" cy="3840120"/>
          </a:xfrm>
          <a:prstGeom prst="rect">
            <a:avLst/>
          </a:prstGeom>
          <a:noFill/>
          <a:ln w="38160">
            <a:solidFill>
              <a:srgbClr val="2b8f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3"/>
          <p:cNvSpPr/>
          <p:nvPr/>
        </p:nvSpPr>
        <p:spPr>
          <a:xfrm>
            <a:off x="4583160" y="0"/>
            <a:ext cx="2286000" cy="6858000"/>
          </a:xfrm>
          <a:prstGeom prst="rect">
            <a:avLst/>
          </a:prstGeom>
          <a:solidFill>
            <a:srgbClr val="2b8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1"/>
          <p:cNvSpPr/>
          <p:nvPr/>
        </p:nvSpPr>
        <p:spPr>
          <a:xfrm>
            <a:off x="0" y="1697040"/>
            <a:ext cx="3645000" cy="4511520"/>
          </a:xfrm>
          <a:prstGeom prst="rect">
            <a:avLst/>
          </a:prstGeom>
          <a:solidFill>
            <a:srgbClr val="2b8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4"/>
          <p:cNvGrpSpPr/>
          <p:nvPr/>
        </p:nvGrpSpPr>
        <p:grpSpPr>
          <a:xfrm>
            <a:off x="353880" y="1508040"/>
            <a:ext cx="2849760" cy="4865760"/>
            <a:chOff x="353880" y="1508040"/>
            <a:chExt cx="2849760" cy="4865760"/>
          </a:xfrm>
        </p:grpSpPr>
        <p:sp>
          <p:nvSpPr>
            <p:cNvPr id="520" name="Rounded Rectangle 5"/>
            <p:cNvSpPr/>
            <p:nvPr/>
          </p:nvSpPr>
          <p:spPr>
            <a:xfrm>
              <a:off x="353880" y="1508040"/>
              <a:ext cx="2849760" cy="4865760"/>
            </a:xfrm>
            <a:custGeom>
              <a:avLst/>
              <a:gdLst>
                <a:gd name="textAreaLeft" fmla="*/ 33120 w 2849760"/>
                <a:gd name="textAreaRight" fmla="*/ 2816640 w 2849760"/>
                <a:gd name="textAreaTop" fmla="*/ 33120 h 4865760"/>
                <a:gd name="textAreaBottom" fmla="*/ 4832640 h 4865760"/>
              </a:gdLst>
              <a:ahLst/>
              <a:rect l="textAreaLeft" t="textAreaTop" r="textAreaRight" b="textAreaBottom"/>
              <a:pathLst>
                <a:path w="21600" h="36879">
                  <a:moveTo>
                    <a:pt x="857" y="0"/>
                  </a:moveTo>
                  <a:arcTo wR="857" hR="857" stAng="16200000" swAng="-5400000"/>
                  <a:lnTo>
                    <a:pt x="0" y="36022"/>
                  </a:lnTo>
                  <a:arcTo wR="857" hR="857" stAng="10800000" swAng="-5400000"/>
                  <a:lnTo>
                    <a:pt x="20743" y="36879"/>
                  </a:lnTo>
                  <a:arcTo wR="857" hR="857" stAng="5400000" swAng="-5400000"/>
                  <a:lnTo>
                    <a:pt x="21600" y="857"/>
                  </a:lnTo>
                  <a:arcTo wR="857" hR="857" stAng="0" swAng="-5400000"/>
                  <a:close/>
                </a:path>
              </a:pathLst>
            </a:custGeom>
            <a:solidFill>
              <a:srgbClr val="2b8f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1" name="Rounded Rectangle 8"/>
            <p:cNvSpPr/>
            <p:nvPr/>
          </p:nvSpPr>
          <p:spPr>
            <a:xfrm>
              <a:off x="531720" y="1795680"/>
              <a:ext cx="108360" cy="4321080"/>
            </a:xfrm>
            <a:custGeom>
              <a:avLst/>
              <a:gdLst>
                <a:gd name="textAreaLeft" fmla="*/ 15840 w 108360"/>
                <a:gd name="textAreaRight" fmla="*/ 92520 w 108360"/>
                <a:gd name="textAreaTop" fmla="*/ 15840 h 4321080"/>
                <a:gd name="textAreaBottom" fmla="*/ 4305240 h 4321080"/>
              </a:gdLst>
              <a:ahLst/>
              <a:rect l="textAreaLeft" t="textAreaTop" r="textAreaRight" b="textAreaBottom"/>
              <a:pathLst>
                <a:path w="21600" h="858564">
                  <a:moveTo>
                    <a:pt x="10800" y="0"/>
                  </a:moveTo>
                  <a:arcTo wR="10800" hR="10800" stAng="16200000" swAng="-5400000"/>
                  <a:lnTo>
                    <a:pt x="0" y="847764"/>
                  </a:lnTo>
                  <a:arcTo wR="10800" hR="10800" stAng="10800000" swAng="-5400000"/>
                  <a:lnTo>
                    <a:pt x="10800" y="85856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2" name="Half Frame 11"/>
            <p:cNvSpPr/>
            <p:nvPr/>
          </p:nvSpPr>
          <p:spPr>
            <a:xfrm rot="5400000">
              <a:off x="2508480" y="1733400"/>
              <a:ext cx="669600" cy="502200"/>
            </a:xfrm>
            <a:custGeom>
              <a:avLst/>
              <a:gdLst/>
              <a:ahLst/>
              <a:rect l="l" t="t" r="r" b="b"/>
              <a:pathLst>
                <a:path w="502331" h="502331">
                  <a:moveTo>
                    <a:pt x="0" y="0"/>
                  </a:moveTo>
                  <a:lnTo>
                    <a:pt x="502331" y="0"/>
                  </a:lnTo>
                  <a:lnTo>
                    <a:pt x="383138" y="119193"/>
                  </a:lnTo>
                  <a:lnTo>
                    <a:pt x="123784" y="119193"/>
                  </a:lnTo>
                  <a:lnTo>
                    <a:pt x="123784" y="378547"/>
                  </a:lnTo>
                  <a:lnTo>
                    <a:pt x="0" y="5023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dt" idx="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42E4-0D4D-4BCD-B05E-557E7F363AB0}" type="datetime"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6.07.28.</a:t>
            </a:fld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R SZALAI ERZSÉB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ftr" idx="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Num" idx="3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A478-49DC-4789-B70D-2149E4581BC1}" type="slidenum"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32F4-B3DB-4822-A264-5645264894ED}" type="datetime"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6.07.28.</a:t>
            </a:fld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R SZALAI ERZSÉB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9350-DFB9-481F-8EC0-4773C72DD8F2}" type="slidenum"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"/>
          <p:cNvSpPr/>
          <p:nvPr/>
        </p:nvSpPr>
        <p:spPr>
          <a:xfrm>
            <a:off x="0" y="4100400"/>
            <a:ext cx="9144000" cy="220824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0" y="6308640"/>
            <a:ext cx="9144000" cy="96840"/>
          </a:xfrm>
          <a:prstGeom prst="rect">
            <a:avLst/>
          </a:prstGeom>
          <a:solidFill>
            <a:srgbClr val="3967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0" y="6211800"/>
            <a:ext cx="9144000" cy="95400"/>
          </a:xfrm>
          <a:prstGeom prst="rect">
            <a:avLst/>
          </a:prstGeom>
          <a:solidFill>
            <a:srgbClr val="26a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자유형: 도형 2"/>
          <p:cNvSpPr/>
          <p:nvPr/>
        </p:nvSpPr>
        <p:spPr>
          <a:xfrm>
            <a:off x="2244600" y="6480"/>
            <a:ext cx="1395360" cy="6864120"/>
          </a:xfrm>
          <a:custGeom>
            <a:avLst/>
            <a:gdLst/>
            <a:ahLst/>
            <a:rect l="l" t="t" r="r" b="b"/>
            <a:pathLst>
              <a:path w="1394746" h="5147938">
                <a:moveTo>
                  <a:pt x="678002" y="2358"/>
                </a:moveTo>
                <a:cubicBezTo>
                  <a:pt x="660202" y="4684"/>
                  <a:pt x="729140" y="4379"/>
                  <a:pt x="709292" y="0"/>
                </a:cubicBezTo>
                <a:cubicBezTo>
                  <a:pt x="1164073" y="792664"/>
                  <a:pt x="2044121" y="3295264"/>
                  <a:pt x="605169" y="5147938"/>
                </a:cubicBezTo>
                <a:lnTo>
                  <a:pt x="0" y="5142483"/>
                </a:lnTo>
                <a:cubicBezTo>
                  <a:pt x="1286717" y="3715598"/>
                  <a:pt x="1489690" y="1855467"/>
                  <a:pt x="678002" y="2358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자유형: 도형 1"/>
          <p:cNvSpPr/>
          <p:nvPr/>
        </p:nvSpPr>
        <p:spPr>
          <a:xfrm>
            <a:off x="2602080" y="-4680"/>
            <a:ext cx="1145880" cy="6873840"/>
          </a:xfrm>
          <a:custGeom>
            <a:avLst/>
            <a:gdLst/>
            <a:ahLst/>
            <a:rect l="l" t="t" r="r" b="b"/>
            <a:pathLst>
              <a:path w="1145801" h="5154958">
                <a:moveTo>
                  <a:pt x="346963" y="0"/>
                </a:moveTo>
                <a:cubicBezTo>
                  <a:pt x="1503833" y="1879282"/>
                  <a:pt x="1323265" y="3584062"/>
                  <a:pt x="323772" y="5154958"/>
                </a:cubicBezTo>
                <a:lnTo>
                  <a:pt x="0" y="5154958"/>
                </a:lnTo>
                <a:cubicBezTo>
                  <a:pt x="1140463" y="3599315"/>
                  <a:pt x="1290903" y="1893588"/>
                  <a:pt x="346963" y="0"/>
                </a:cubicBezTo>
                <a:close/>
              </a:path>
            </a:pathLst>
          </a:custGeom>
          <a:solidFill>
            <a:srgbClr val="2b8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0" y="0"/>
            <a:ext cx="7886880" cy="6869160"/>
          </a:xfrm>
          <a:custGeom>
            <a:avLst/>
            <a:gdLst/>
            <a:ahLst/>
            <a:rect l="l" t="t" r="r" b="b"/>
            <a:pathLst>
              <a:path w="7886599" h="5151451">
                <a:moveTo>
                  <a:pt x="0" y="0"/>
                </a:moveTo>
                <a:lnTo>
                  <a:pt x="5779504" y="0"/>
                </a:lnTo>
                <a:lnTo>
                  <a:pt x="7886599" y="5151451"/>
                </a:lnTo>
                <a:lnTo>
                  <a:pt x="0" y="51435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D:\Fullppt\005-PNG이미지\모니터.png"/>
          <p:cNvPicPr/>
          <p:nvPr/>
        </p:nvPicPr>
        <p:blipFill>
          <a:blip r:embed="rId2"/>
          <a:stretch/>
        </p:blipFill>
        <p:spPr>
          <a:xfrm>
            <a:off x="1979640" y="549360"/>
            <a:ext cx="2663640" cy="3541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D:\Fullppt\005-PNG이미지\모니터.png"/>
          <p:cNvPicPr/>
          <p:nvPr/>
        </p:nvPicPr>
        <p:blipFill>
          <a:blip r:embed="rId3"/>
          <a:stretch/>
        </p:blipFill>
        <p:spPr>
          <a:xfrm>
            <a:off x="5987880" y="3186000"/>
            <a:ext cx="2664000" cy="354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D:\Fullppt\PNG이미지\핸드폰2.png"/>
          <p:cNvPicPr/>
          <p:nvPr/>
        </p:nvPicPr>
        <p:blipFill>
          <a:blip r:embed="rId3"/>
          <a:stretch/>
        </p:blipFill>
        <p:spPr>
          <a:xfrm>
            <a:off x="5678640" y="1630440"/>
            <a:ext cx="3371760" cy="544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3" descr="D:\Fullppt\005-PNG이미지\노트북.png"/>
          <p:cNvPicPr/>
          <p:nvPr/>
        </p:nvPicPr>
        <p:blipFill>
          <a:blip r:embed="rId2"/>
          <a:stretch/>
        </p:blipFill>
        <p:spPr>
          <a:xfrm>
            <a:off x="-828720" y="1316160"/>
            <a:ext cx="6438960" cy="436716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7"/>
          <p:cNvSpPr/>
          <p:nvPr/>
        </p:nvSpPr>
        <p:spPr>
          <a:xfrm>
            <a:off x="233280" y="5683320"/>
            <a:ext cx="8677440" cy="722160"/>
          </a:xfrm>
          <a:prstGeom prst="rect">
            <a:avLst/>
          </a:prstGeom>
          <a:solidFill>
            <a:srgbClr val="2b8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0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2158560" y="4762080"/>
            <a:ext cx="446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3967de"/>
                </a:solidFill>
                <a:latin typeface="Arial"/>
                <a:ea typeface="Arial"/>
              </a:rPr>
              <a:t>Gazdasági jo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5"/>
          <p:cNvSpPr/>
          <p:nvPr/>
        </p:nvSpPr>
        <p:spPr>
          <a:xfrm>
            <a:off x="2268360" y="4226400"/>
            <a:ext cx="588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404040"/>
                </a:solidFill>
                <a:latin typeface="Verdana"/>
                <a:ea typeface="Arial"/>
              </a:rPr>
              <a:t>Kötelmi jog_Különös rész Ptk. VI. Könyv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Téglalap 6"/>
          <p:cNvSpPr/>
          <p:nvPr/>
        </p:nvSpPr>
        <p:spPr>
          <a:xfrm>
            <a:off x="-36360" y="857160"/>
            <a:ext cx="569880" cy="5143680"/>
          </a:xfrm>
          <a:prstGeom prst="rect">
            <a:avLst/>
          </a:prstGeom>
          <a:solidFill>
            <a:srgbClr val="7dc7f3"/>
          </a:solidFill>
          <a:ln w="25560">
            <a:solidFill>
              <a:srgbClr val="7dc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Folyamatábra: Kézi adatbevitel 7"/>
          <p:cNvSpPr/>
          <p:nvPr/>
        </p:nvSpPr>
        <p:spPr>
          <a:xfrm rot="10800000">
            <a:off x="545760" y="857160"/>
            <a:ext cx="1361880" cy="5143680"/>
          </a:xfrm>
          <a:prstGeom prst="flowChartManualInput">
            <a:avLst/>
          </a:prstGeom>
          <a:solidFill>
            <a:srgbClr val="7dc7f3"/>
          </a:solidFill>
          <a:ln w="25560">
            <a:solidFill>
              <a:srgbClr val="7dc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Folyamatábra: Kézi adatbevitel 8"/>
          <p:cNvSpPr/>
          <p:nvPr/>
        </p:nvSpPr>
        <p:spPr>
          <a:xfrm rot="10800000">
            <a:off x="-36000" y="857160"/>
            <a:ext cx="1363680" cy="5143680"/>
          </a:xfrm>
          <a:prstGeom prst="flowChartManualInput">
            <a:avLst/>
          </a:prstGeom>
          <a:solidFill>
            <a:srgbClr val="117cbb"/>
          </a:solidFill>
          <a:ln w="25560">
            <a:solidFill>
              <a:srgbClr val="117c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8" name="Kép 10" descr=""/>
          <p:cNvPicPr/>
          <p:nvPr/>
        </p:nvPicPr>
        <p:blipFill>
          <a:blip r:embed="rId1"/>
          <a:stretch/>
        </p:blipFill>
        <p:spPr>
          <a:xfrm>
            <a:off x="6516720" y="4437000"/>
            <a:ext cx="2430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738" name="Rectangle 2"/>
          <p:cNvSpPr/>
          <p:nvPr/>
        </p:nvSpPr>
        <p:spPr>
          <a:xfrm>
            <a:off x="1476360" y="1413000"/>
            <a:ext cx="56577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UVARLEVÉ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/>
          </p:nvPr>
        </p:nvSpPr>
        <p:spPr>
          <a:xfrm>
            <a:off x="1251000" y="2166840"/>
            <a:ext cx="6107040" cy="38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bizonyítja ellenkező bizonyításig, ha feladó és fuvarozó is aláír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uvarozási szerződés létrejötté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csomagolás sértetlenségé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veszélyes árut közölni kel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Fuvarozó átvételt megtagadhatja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csomagolás nem megfelelő vagy nem ellenőrizhető, feladó a továbbításhoz szükséges dokumentációt nem adja át</a:t>
            </a:r>
            <a:br>
              <a:rPr sz="2200"/>
            </a:b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pótlás hiányában elállhat a szerződéstő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741" name="Téglalap 1"/>
          <p:cNvSpPr/>
          <p:nvPr/>
        </p:nvSpPr>
        <p:spPr>
          <a:xfrm>
            <a:off x="2781360" y="1052640"/>
            <a:ext cx="32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Feladó jogai, kötelezettsége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Téglalap 2"/>
          <p:cNvSpPr/>
          <p:nvPr/>
        </p:nvSpPr>
        <p:spPr>
          <a:xfrm>
            <a:off x="755640" y="2133720"/>
            <a:ext cx="73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Verdana"/>
              </a:rPr>
              <a:t>Feladó köte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megfelelő csomagolást biztosítan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fuvarozáshoz szükséges okmányok átadá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küldemény beraká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Verdana"/>
              </a:rPr>
              <a:t>Feladó jogosul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fuvarozás kezdete előtt elállni </a:t>
            </a:r>
            <a:r>
              <a:rPr b="0" lang="hu-HU" sz="1600" spc="-1" strike="noStrike">
                <a:solidFill>
                  <a:srgbClr val="000000"/>
                </a:solidFill>
                <a:latin typeface="Verdana"/>
              </a:rPr>
              <a:t>(kártérítési kötelezettség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küldeménnyel rendelkezni </a:t>
            </a:r>
            <a:r>
              <a:rPr b="0" lang="hu-HU" sz="1600" spc="-1" strike="noStrike">
                <a:solidFill>
                  <a:srgbClr val="000000"/>
                </a:solidFill>
                <a:latin typeface="Verdana"/>
              </a:rPr>
              <a:t>(amíg ki nem szolgáltatták a címzettne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Verdana"/>
              </a:rPr>
              <a:t>Felelős</a:t>
            </a: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 fuvarozó káráért, ha ezek mulasztásából e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2"/>
          <p:cNvSpPr/>
          <p:nvPr/>
        </p:nvSpPr>
        <p:spPr>
          <a:xfrm>
            <a:off x="1116000" y="950760"/>
            <a:ext cx="6318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uvarozó jogai, kötelezettsége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/>
          </p:nvPr>
        </p:nvSpPr>
        <p:spPr>
          <a:xfrm>
            <a:off x="1025640" y="1679400"/>
            <a:ext cx="6107040" cy="42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Fuvarozó köt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felelő időben kiállni, szállítást megkezd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uvarozás akadályáról feladót haladéktalanul informálni, utasítást kér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üldemény megérkezéséről címzettet értesíte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Fuvarozó jog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üldemény átvételét megtagadhatja, eláll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i-, berakás körében utasí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ztosítékot követelhet (fuvarozás megkezdése után kapott utasítások végrehajtásak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címzett nem rakodik ki, feladó terhére fuvaroz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00"/>
                </a:solidFill>
                <a:latin typeface="Arial"/>
              </a:rPr>
              <a:t>Felelőségéne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izárása semmis, többféle fuvarozási ág szabályainak betar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971640" y="1557360"/>
            <a:ext cx="63180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Arial"/>
              </a:rPr>
              <a:t>Fuvardíj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893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i a fuvarlevélben áll (ellenkező bizonyítási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semmisülés, elvesztés esetén csak akkor jár (részben), ha bizonyítja, hogy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évülés: 1 év (kivétel szándékosság, súlyos gondatlansá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ezdete: címzettnek átadás időpont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2"/>
          <p:cNvSpPr/>
          <p:nvPr/>
        </p:nvSpPr>
        <p:spPr>
          <a:xfrm>
            <a:off x="1042920" y="1203480"/>
            <a:ext cx="63928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BÍZÁSI TÍPUSÚ SZERZŐDÉSEK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1332000" y="3211560"/>
            <a:ext cx="639108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l.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bízási szerződé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izományi szerződé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vetítői szerződé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llítmányozási szerződé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izalmi vagyonkezelői szerződé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3"/>
          <p:cNvSpPr/>
          <p:nvPr/>
        </p:nvSpPr>
        <p:spPr>
          <a:xfrm>
            <a:off x="468360" y="1557360"/>
            <a:ext cx="840744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egbízási szerződés alapján a megbízott a megbízó által rábízott feladat ellátására, a megbízó megbízási díj megfizetésére köte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megbízott köteles a megbízó utasításait követni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Utasítástól eltérés lehet, ha a megbízó érdeke feltétlenül megköveteli, és előzetes értesítésre nincsen mód (ez eddig a teljesítési segéd igénybe vételénél jelent meg elsősorban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755640" y="1100160"/>
            <a:ext cx="8412120" cy="44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rendelő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utasítása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nem megfelelőek, célszerűtlenek vag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akszerűtlenek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jékoztatási kötelezettsé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állá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elmondá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ljesítés megtagadása, ha jogszabály tiltja, vagy életet, vagyonbiztonságo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eszélyeztetn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3"/>
          <p:cNvSpPr/>
          <p:nvPr/>
        </p:nvSpPr>
        <p:spPr>
          <a:xfrm>
            <a:off x="611280" y="1700280"/>
            <a:ext cx="777708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Ha a megbízás teljesítéséhez szerződés kötése vagy más jognyilatkozat tétele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szükséges, a megbízás a meghatalmazást is magában foglalja (képviseleti jog)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500" spc="-1" strike="noStrike">
                <a:solidFill>
                  <a:srgbClr val="ff9933"/>
                </a:solidFill>
                <a:latin typeface="Arial"/>
              </a:rPr>
              <a:t>Tájékoztatási kötelezettség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terheli a feleket a tekintetben, ha a konszenzusukhoz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képest változás áll be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500" spc="-1" strike="noStrike">
                <a:solidFill>
                  <a:srgbClr val="ff9933"/>
                </a:solidFill>
                <a:latin typeface="Arial"/>
              </a:rPr>
              <a:t>megbízási díj: </a:t>
            </a: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  a megbízás teljesülésbe ment. (mégsem kell kifizetni minden esetbe a megbízási díjat, pl. ha elmaradt az eredmény, azonban az eredményért felelős a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megbízott, részben vagy egészben, aszerint csökkenthető a megbízási díj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megbízó előlegezi a költségeke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Megbízott zálogjoga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8459640" y="5343480"/>
            <a:ext cx="433440" cy="455760"/>
          </a:xfrm>
          <a:prstGeom prst="rect">
            <a:avLst/>
          </a:prstGeom>
          <a:ln w="0">
            <a:noFill/>
          </a:ln>
        </p:spPr>
      </p:pic>
      <p:sp>
        <p:nvSpPr>
          <p:cNvPr id="758" name="Tartalom helye 1"/>
          <p:cNvSpPr/>
          <p:nvPr/>
        </p:nvSpPr>
        <p:spPr>
          <a:xfrm>
            <a:off x="468360" y="1268280"/>
            <a:ext cx="77756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cc00"/>
                </a:solidFill>
                <a:latin typeface="Arial"/>
              </a:rPr>
              <a:t>Bizományi szerződ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bizományos a megbízó javára a saját nevében </a:t>
            </a:r>
            <a:r>
              <a:rPr b="0" lang="hu-HU" sz="1800" spc="-1" strike="noStrike">
                <a:solidFill>
                  <a:srgbClr val="ffff00"/>
                </a:solidFill>
                <a:latin typeface="Arial"/>
              </a:rPr>
              <a:t>ingó dologr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 adásvételi szerződés kötésére, a megbízó a díj megfizetésére köte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zományos több szerződést köt: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gt; megbízóval bizományosi szerződé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&gt; harmadik személlyel adásvételi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vagy egyéb szerződé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artalom helye 1"/>
          <p:cNvSpPr/>
          <p:nvPr/>
        </p:nvSpPr>
        <p:spPr>
          <a:xfrm>
            <a:off x="108000" y="1268280"/>
            <a:ext cx="88916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tulajdonjo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ételi bizománynál az elszámoláskor megbízó javá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ladási bizománynál jogosult a megbízó tulajdonát átruházn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kötelessége 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díj megfizetés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ha az adásvételi szerződést megkötötték vagy megkötés megbízó miatt maradt 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ha jobb árat ér el, különbözet megbízó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ha rosszabb árat ér el, különbözetet megfizetni (főszabál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8459640" y="5343480"/>
            <a:ext cx="433440" cy="45576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2"/>
          <p:cNvSpPr/>
          <p:nvPr/>
        </p:nvSpPr>
        <p:spPr>
          <a:xfrm>
            <a:off x="-828720" y="1268280"/>
            <a:ext cx="77835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Arial"/>
              </a:rPr>
              <a:t>KÜLÖNÖS RÉSZI SZERZŐDÉSE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107640" y="3573000"/>
            <a:ext cx="867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13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04040"/>
                </a:solidFill>
                <a:latin typeface="Times New Roman"/>
                <a:ea typeface="Arial"/>
              </a:rPr>
              <a:t>Vállalkozási típusú szerződés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04040"/>
                </a:solidFill>
                <a:latin typeface="Times New Roman"/>
                <a:ea typeface="Arial"/>
              </a:rPr>
              <a:t>Megbízási típusú szerződés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04040"/>
                </a:solidFill>
                <a:latin typeface="Times New Roman"/>
                <a:ea typeface="Arial"/>
              </a:rPr>
              <a:t>Tulajdon átruházására vonatkozó szerződés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04040"/>
                </a:solidFill>
                <a:latin typeface="Times New Roman"/>
                <a:ea typeface="Arial"/>
              </a:rPr>
              <a:t>Letéti szerző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04040"/>
                </a:solidFill>
                <a:latin typeface="Times New Roman"/>
                <a:ea typeface="Arial"/>
              </a:rPr>
              <a:t>Használati szerződés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04040"/>
                </a:solidFill>
                <a:latin typeface="Times New Roman"/>
                <a:ea typeface="Arial"/>
              </a:rPr>
              <a:t>Biztosítéki szerződés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04040"/>
                </a:solidFill>
                <a:latin typeface="Times New Roman"/>
                <a:ea typeface="Arial"/>
              </a:rPr>
              <a:t>Hitel- és számlaszerződés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8459640" y="5343480"/>
            <a:ext cx="433440" cy="455760"/>
          </a:xfrm>
          <a:prstGeom prst="rect">
            <a:avLst/>
          </a:prstGeom>
          <a:ln w="0">
            <a:noFill/>
          </a:ln>
        </p:spPr>
      </p:pic>
      <p:sp>
        <p:nvSpPr>
          <p:cNvPr id="761" name="Tartalom helye 1"/>
          <p:cNvSpPr/>
          <p:nvPr/>
        </p:nvSpPr>
        <p:spPr>
          <a:xfrm>
            <a:off x="468360" y="1963800"/>
            <a:ext cx="867564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özvetít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egbízója és harmadik személy között szerződé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kötésének elősegítésére irányuló tevékenységet folyt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peciális ágazati szabályok, pl. ingatlan, tőzsde, biztosítás st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vetően megbízáson alapul (főszabál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jékoztatási kötelesség arról, ha harmadik személynek is közvetí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íjazás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900000" y="981000"/>
            <a:ext cx="56581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Közvetítői szerződé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artalom helye 1"/>
          <p:cNvSpPr/>
          <p:nvPr/>
        </p:nvSpPr>
        <p:spPr>
          <a:xfrm>
            <a:off x="826920" y="1628640"/>
            <a:ext cx="792180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f3f3f"/>
                </a:solidFill>
                <a:latin typeface="Arial"/>
              </a:rPr>
              <a:t>Tartós közvetítői szerződés</a:t>
            </a:r>
            <a:r>
              <a:rPr b="1" lang="hu-HU" sz="22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ha közvetítő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.) </a:t>
            </a:r>
            <a:r>
              <a:rPr b="0" lang="hu-HU" sz="2200" spc="-1" strike="noStrike">
                <a:solidFill>
                  <a:srgbClr val="3f3f3f"/>
                </a:solidFill>
                <a:latin typeface="Arial"/>
              </a:rPr>
              <a:t>folyamatos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megbízás keretébe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(több szerződés megkötésének közvetítése, vagy egy szerződés megújítása, fenntartása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b.) </a:t>
            </a:r>
            <a:r>
              <a:rPr b="0" lang="hu-HU" sz="2200" spc="-1" strike="noStrike">
                <a:solidFill>
                  <a:srgbClr val="3f3f3f"/>
                </a:solidFill>
                <a:latin typeface="Arial"/>
              </a:rPr>
              <a:t>szerződés formájában</a:t>
            </a:r>
            <a:r>
              <a:rPr b="0" lang="hu-HU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végzi a közvetítői  tevékenységét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c.) és </a:t>
            </a:r>
            <a:r>
              <a:rPr b="0" lang="hu-HU" sz="2200" spc="-1" strike="noStrike">
                <a:solidFill>
                  <a:srgbClr val="3f3f3f"/>
                </a:solidFill>
                <a:latin typeface="Arial"/>
              </a:rPr>
              <a:t>önállóan jár e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Arial"/>
              </a:rPr>
              <a:t>(főszabályként nem áll munkaviszonyban a megbízóval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artalom helye 1"/>
          <p:cNvSpPr/>
          <p:nvPr/>
        </p:nvSpPr>
        <p:spPr>
          <a:xfrm>
            <a:off x="179280" y="1341360"/>
            <a:ext cx="9145800" cy="41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gbízó kötelezettsége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ájékoztatás, segítség a teljesítéshez, különösen okiratok átadá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ényegesen kisebb mennyiségű teljesítésről értesí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özvetített szerződés elfogadásáról, elutasításáró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atározott idejű &gt; határozat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elmondás: hó utolsó napjá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erződés lejárta után  max. 2 évre versenykorlátoz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csak írásb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8459640" y="5343480"/>
            <a:ext cx="433440" cy="455760"/>
          </a:xfrm>
          <a:prstGeom prst="rect">
            <a:avLst/>
          </a:prstGeom>
          <a:ln w="0">
            <a:noFill/>
          </a:ln>
        </p:spPr>
      </p:pic>
      <p:sp>
        <p:nvSpPr>
          <p:cNvPr id="766" name="Tartalom helye 1"/>
          <p:cNvSpPr/>
          <p:nvPr/>
        </p:nvSpPr>
        <p:spPr>
          <a:xfrm>
            <a:off x="187200" y="2349360"/>
            <a:ext cx="849816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llítmányozó a </a:t>
            </a:r>
            <a:r>
              <a:rPr b="0" lang="hu-HU" sz="2000" spc="-1" strike="noStrike">
                <a:solidFill>
                  <a:srgbClr val="3f3f3f"/>
                </a:solidFill>
                <a:latin typeface="Arial"/>
              </a:rPr>
              <a:t>saját nevében a megbízó javár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üldemén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ovábbításával összefüggő szerződéseket köt és jognyilatkozatokat tes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f3f3f"/>
                </a:solidFill>
                <a:latin typeface="Arial"/>
              </a:rPr>
              <a:t>Önszerződés lehe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maga is végezheti a fuvarozá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Jutalék = utólagos fuvardíjkedvezmény a fuvarozótól (refakcia) neki já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évülés 1 év (főszabál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elősség és egyéb kérdésekben megbízási, ill. fuvarozási szerződé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já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Téglalap 1"/>
          <p:cNvSpPr/>
          <p:nvPr/>
        </p:nvSpPr>
        <p:spPr>
          <a:xfrm>
            <a:off x="660240" y="1125360"/>
            <a:ext cx="32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cc00"/>
                </a:solidFill>
                <a:latin typeface="Verdana"/>
              </a:rPr>
              <a:t>Szállítmányozási szerződ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8459640" y="5343480"/>
            <a:ext cx="433440" cy="455760"/>
          </a:xfrm>
          <a:prstGeom prst="rect">
            <a:avLst/>
          </a:prstGeom>
          <a:ln w="0">
            <a:noFill/>
          </a:ln>
        </p:spPr>
      </p:pic>
      <p:sp>
        <p:nvSpPr>
          <p:cNvPr id="769" name="Téglalap 1"/>
          <p:cNvSpPr/>
          <p:nvPr/>
        </p:nvSpPr>
        <p:spPr>
          <a:xfrm>
            <a:off x="1935360" y="1197000"/>
            <a:ext cx="37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cc00"/>
                </a:solidFill>
                <a:latin typeface="Verdana"/>
              </a:rPr>
              <a:t>Bizalmi vagyonkezelési szerződ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Tartalom helye 1"/>
          <p:cNvSpPr/>
          <p:nvPr/>
        </p:nvSpPr>
        <p:spPr>
          <a:xfrm>
            <a:off x="324000" y="1916280"/>
            <a:ext cx="8496000" cy="39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új típus, minta az angol </a:t>
            </a:r>
            <a:r>
              <a:rPr b="0" lang="hu-HU" sz="2000" spc="-1" strike="noStrike">
                <a:solidFill>
                  <a:srgbClr val="3f3f3f"/>
                </a:solidFill>
                <a:latin typeface="Arial"/>
              </a:rPr>
              <a:t>trust</a:t>
            </a: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ézmény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2000" spc="-1" strike="noStrike">
                <a:solidFill>
                  <a:srgbClr val="3f3f3f"/>
                </a:solidFill>
                <a:latin typeface="Arial"/>
              </a:rPr>
              <a:t>vagyonkezelő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2000" spc="-1" strike="noStrike">
                <a:solidFill>
                  <a:srgbClr val="3f3f3f"/>
                </a:solidFill>
                <a:latin typeface="Arial"/>
              </a:rPr>
              <a:t>vagyonrendel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által tulajdonába adott dolgokat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áruházott jogokat és követeléseket (a továbbiakban: </a:t>
            </a:r>
            <a:r>
              <a:rPr b="0" lang="hu-HU" sz="2000" spc="-1" strike="noStrike">
                <a:solidFill>
                  <a:srgbClr val="3f3f3f"/>
                </a:solidFill>
                <a:latin typeface="Arial"/>
              </a:rPr>
              <a:t>kezelt vagyont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f3f3f"/>
                </a:solidFill>
                <a:latin typeface="Arial"/>
              </a:rPr>
              <a:t>saját nevében kezeli a kedvezményezett javá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terjedése: ahol professzionális ismeretekre van szüksége, pl. pénzügyi befektetés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artalom helye 1"/>
          <p:cNvSpPr/>
          <p:nvPr/>
        </p:nvSpPr>
        <p:spPr>
          <a:xfrm>
            <a:off x="108000" y="1413000"/>
            <a:ext cx="89280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f3f3f"/>
                </a:solidFill>
                <a:latin typeface="Arial"/>
              </a:rPr>
              <a:t>Vagyonrendel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&gt; lehet vagyonkezelő, kedvezményezet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f3f3f"/>
                </a:solidFill>
                <a:latin typeface="Arial"/>
              </a:rPr>
              <a:t>Vagyonkezel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&gt; nem lehet az általa kizárólag kezelt vagy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dvezményezett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gyonrendelő határozza meg a </a:t>
            </a:r>
            <a:r>
              <a:rPr b="0" lang="hu-HU" sz="2000" spc="-1" strike="noStrike">
                <a:solidFill>
                  <a:srgbClr val="3f3f3f"/>
                </a:solidFill>
                <a:latin typeface="Arial"/>
              </a:rPr>
              <a:t>kedvezményezett(ek)et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jogosultságu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zdetének megszűnésének feltétel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zelt vagyon = vagyonkezelő saját vagyonától </a:t>
            </a:r>
            <a:r>
              <a:rPr b="0" lang="hu-HU" sz="2000" spc="-1" strike="noStrike">
                <a:solidFill>
                  <a:srgbClr val="3f3f3f"/>
                </a:solidFill>
                <a:latin typeface="Arial"/>
              </a:rPr>
              <a:t>elkülönült vagyon</a:t>
            </a: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3f3f3f"/>
                </a:solidFill>
                <a:latin typeface="Arial"/>
              </a:rPr>
              <a:t>védettség</a:t>
            </a: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itelezőkkel szemb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773" name="Tartalom helye 1"/>
          <p:cNvSpPr/>
          <p:nvPr/>
        </p:nvSpPr>
        <p:spPr>
          <a:xfrm>
            <a:off x="298440" y="1197000"/>
            <a:ext cx="8820000" cy="39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f3f3f"/>
                </a:solidFill>
                <a:latin typeface="Arial"/>
              </a:rPr>
              <a:t>Vagyonkezelő köteles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 kedvezményezett javára a vagyont gazdaságosan, eredménye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ezelni, megőriz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itoktartási kötelezettsé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zámadási kötelezettsé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rződéses felelőssé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gyonrendelő bármikor visszahívhat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szűné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oldali jogügylettel lehet létesíteni, ha vagyonrendelő = vagyonkezelő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8459640" y="5343480"/>
            <a:ext cx="433440" cy="455760"/>
          </a:xfrm>
          <a:prstGeom prst="rect">
            <a:avLst/>
          </a:prstGeom>
          <a:ln w="0">
            <a:noFill/>
          </a:ln>
        </p:spPr>
      </p:pic>
      <p:sp>
        <p:nvSpPr>
          <p:cNvPr id="775" name="Téglalap 1"/>
          <p:cNvSpPr/>
          <p:nvPr/>
        </p:nvSpPr>
        <p:spPr>
          <a:xfrm>
            <a:off x="2279160" y="112536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9933"/>
                </a:solidFill>
                <a:latin typeface="Arial"/>
              </a:rPr>
              <a:t>Letéti szerződ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Téglalap 2"/>
          <p:cNvSpPr/>
          <p:nvPr/>
        </p:nvSpPr>
        <p:spPr>
          <a:xfrm>
            <a:off x="250920" y="1832040"/>
            <a:ext cx="878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Arial"/>
              </a:rPr>
              <a:t>letéteményes</a:t>
            </a:r>
            <a:r>
              <a:rPr b="0" lang="hu-HU" sz="20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a szerződésben meghatározott </a:t>
            </a:r>
            <a:r>
              <a:rPr b="1" lang="hu-HU" sz="2000" spc="-1" strike="noStrike">
                <a:solidFill>
                  <a:srgbClr val="ffff00"/>
                </a:solidFill>
                <a:latin typeface="Arial"/>
              </a:rPr>
              <a:t>ingó dolog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őrzésére és annak 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rződés megszűnésekor történő visszaadására köte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olgot nem használhatja, hasznosíthatja, más őrzésére nem bízhatj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kivétel: károsodás elkerülé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elmond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letéteménye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határozatlan idejű szerződés esetén 15 nap; határozott, ha a dolog biztonsága veszélyben v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letevő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:bármik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szonszedésre kötelezett, ha a dolog természeténél fogva hasznot haj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zel köteles a letevőnek elszámol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gyenes letétnél költségek megillet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ajtá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yűjtő letéti szerződ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endhagyó letéti szerződ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állodai letéti szerződ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Arial"/>
              </a:rPr>
              <a:t>ADÁS-VÉTELI SZERZŐD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Arial"/>
              </a:rPr>
              <a:t>CS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cc00"/>
                </a:solidFill>
                <a:latin typeface="Arial"/>
              </a:rPr>
              <a:t>AJÁNDÉK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Dia számának helye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A55D-1086-4F59-AEDB-BA72DD4D8372}" type="slidenum">
              <a:rPr b="0" lang="hu-HU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Dátum helye 3"/>
          <p:cNvSpPr/>
          <p:nvPr/>
        </p:nvSpPr>
        <p:spPr>
          <a:xfrm>
            <a:off x="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R SZALAI ERZSÉB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title"/>
          </p:nvPr>
        </p:nvSpPr>
        <p:spPr>
          <a:xfrm>
            <a:off x="394920" y="315720"/>
            <a:ext cx="92170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3967de"/>
                </a:solidFill>
                <a:latin typeface="Arial"/>
              </a:rPr>
              <a:t>TULAJDON ÁTRUHÁZÁSRA VONATKOZÓ </a:t>
            </a:r>
            <a:br>
              <a:rPr sz="3200"/>
            </a:br>
            <a:r>
              <a:rPr b="0" lang="hu-HU" sz="3200" spc="-1" strike="noStrike">
                <a:solidFill>
                  <a:srgbClr val="3967de"/>
                </a:solidFill>
                <a:latin typeface="Arial"/>
              </a:rPr>
              <a:t>SZERZŐDÉS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4" descr="MCj04397830000[1]"/>
          <p:cNvPicPr/>
          <p:nvPr/>
        </p:nvPicPr>
        <p:blipFill>
          <a:blip r:embed="rId1"/>
          <a:stretch/>
        </p:blipFill>
        <p:spPr>
          <a:xfrm>
            <a:off x="5219640" y="4005360"/>
            <a:ext cx="2087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8459640" y="5343480"/>
            <a:ext cx="433440" cy="45576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2"/>
          <p:cNvSpPr/>
          <p:nvPr/>
        </p:nvSpPr>
        <p:spPr>
          <a:xfrm>
            <a:off x="-1440" y="1197000"/>
            <a:ext cx="7543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33"/>
                </a:solidFill>
                <a:latin typeface="Arial"/>
              </a:rPr>
              <a:t>VÁLLALKOZÁSI SZERZŐDÉS ÁLTALÁNOS SZABÁLY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108000" y="2204640"/>
            <a:ext cx="8928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en szerződés alapján a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ÁLLALKOZ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vékenységgel elérhető eredmény (mű) megvalósításá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rendelő annak átvételére és a vállalkozói díj megfizetésére köt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cseréből vette kezdeté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em volt pénz, nem ismerték az áru, ár szót s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-ki a dolgait az idők és a dolgok szükségessége szerint kicserélte azt, ami számára nem volt szükséges, vagy fölöslege vo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 az ősi adásvétel „készvétel” vo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title"/>
          </p:nvPr>
        </p:nvSpPr>
        <p:spPr>
          <a:xfrm>
            <a:off x="468000" y="3553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967de"/>
                </a:solidFill>
                <a:latin typeface="Arial"/>
              </a:rPr>
              <a:t>ADÁS-VÉTELI SZERZŐDÉS </a:t>
            </a:r>
            <a:br>
              <a:rPr sz="3600"/>
            </a:br>
            <a:r>
              <a:rPr b="0" lang="hu-HU" sz="2000" spc="-1" strike="noStrike">
                <a:solidFill>
                  <a:srgbClr val="3967de"/>
                </a:solidFill>
                <a:latin typeface="Arial"/>
              </a:rPr>
              <a:t>(venditio-empt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59984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3200" spc="-1" strike="noStrike">
                <a:solidFill>
                  <a:srgbClr val="ff9933"/>
                </a:solidFill>
                <a:latin typeface="Arial"/>
              </a:rPr>
              <a:t>mai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adásvétel </a:t>
            </a:r>
            <a:r>
              <a:rPr b="1" lang="hu-HU" sz="3200" spc="-1" strike="noStrike">
                <a:solidFill>
                  <a:srgbClr val="3f3f3f"/>
                </a:solidFill>
                <a:latin typeface="Arial"/>
              </a:rPr>
              <a:t>különös elemei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ővásárlási j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isszavásárlás j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ételi-eladási j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észletvé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tekintésre vét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róbára vét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ta szerinti vét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jogosult az igényeit a szerződéskötésről való tudomásszerzéstől számított 30 napon belül érvényesítheti (végső jogvesztő határidő: max. 3 év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idejűleg az ajánlatot elfogadó nyilatkozatot tesz és igazolja teljesítőképességé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Elővásárlási j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írás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adónak a vevőhöz intézett nyilatkozatával jön lé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sak mikor köthető ki ?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a szerződés megkötésével egyidejűle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title"/>
          </p:nvPr>
        </p:nvSpPr>
        <p:spPr>
          <a:xfrm>
            <a:off x="107640" y="1904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Arial"/>
              </a:rPr>
              <a:t>VISSZAVÁSÁRLÁS JO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95280" y="1125000"/>
            <a:ext cx="749448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LEK SZABADON  ÁLLAPODNAK MEG visszavásárlá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dőtartamár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 árr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nem állapodnak meg:visszavásárlási ár a visszavásárláskori forgalmi érték les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égi Ptk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. max 5 év, eredeti ár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title"/>
          </p:nvPr>
        </p:nvSpPr>
        <p:spPr>
          <a:xfrm>
            <a:off x="539280" y="1299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3967de"/>
                </a:solidFill>
                <a:latin typeface="Arial"/>
              </a:rPr>
              <a:t>RÉSZLETVÉTE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3"/>
          <p:cNvSpPr/>
          <p:nvPr/>
        </p:nvSpPr>
        <p:spPr>
          <a:xfrm>
            <a:off x="160020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egállapodá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evő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 a vételárat meghatározott időpontokban, több részletben fizeti m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- a dolgot a vételár teljes kiegyenlítése előtt átvesz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em fizetés?  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- eladó írásban kikötheti az elállást,  VAGY a részletfizetési kedvezmény megvonásá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 először értesíteni, időt adn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 tulajdonos másnak vételi jogot, VAGY eladási jogot enged, a jogosult a dolgot a </a:t>
            </a:r>
            <a:r>
              <a:rPr b="0" lang="hu-HU" sz="2400" spc="-1" strike="noStrike">
                <a:solidFill>
                  <a:srgbClr val="ff9933"/>
                </a:solidFill>
                <a:latin typeface="Arial"/>
              </a:rPr>
              <a:t>szerződésben meghatározott áron egyoldalú nyilatkozattal megvásárolhatj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 vagy a tulajdonos a szerződésben meghatározott áron egyoldalú nyilatkozattal </a:t>
            </a:r>
            <a:r>
              <a:rPr b="0" lang="hu-HU" sz="2400" spc="-1" strike="noStrike">
                <a:solidFill>
                  <a:srgbClr val="ff9933"/>
                </a:solidFill>
                <a:latin typeface="Arial"/>
              </a:rPr>
              <a:t>eladhatj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meghatározott személynek (az eladási jog kötelezettjének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írás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title"/>
          </p:nvPr>
        </p:nvSpPr>
        <p:spPr>
          <a:xfrm>
            <a:off x="394920" y="350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3967de"/>
                </a:solidFill>
                <a:latin typeface="Arial"/>
              </a:rPr>
              <a:t>VÉTELI-, ELADÁSI JOG </a:t>
            </a:r>
            <a:br>
              <a:rPr sz="3600"/>
            </a:br>
            <a:r>
              <a:rPr b="0" lang="hu-HU" sz="3600" spc="-1" strike="noStrike">
                <a:solidFill>
                  <a:srgbClr val="3967de"/>
                </a:solidFill>
                <a:latin typeface="Arial"/>
              </a:rPr>
              <a:t>ENGEDÉSE(opció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95280" y="1647720"/>
            <a:ext cx="856944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LEK SZABADON  ÁLLAPODNAK ME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vételi-, eladási jog  időtartamár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rró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régi Ptk. határozatlan időnél max 6 hó köthető k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1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title"/>
          </p:nvPr>
        </p:nvSpPr>
        <p:spPr>
          <a:xfrm>
            <a:off x="1576080" y="304920"/>
            <a:ext cx="756756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179280" y="896760"/>
            <a:ext cx="8856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Arial"/>
              </a:rPr>
              <a:t>Megtekintésre véte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ha nem nyilatkozik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tekintő, akkor nem lép hatályba a szerződ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Arial"/>
              </a:rPr>
              <a:t>Próbára véte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: ha nem nyilatkozik, akkor úgy veszik, hogy tetszett neki a dolog, és hatályos lesz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rződ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Arial"/>
              </a:rPr>
              <a:t>Minta szerinti véte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esetén, ha a leszállított dolo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égis eltér a mintától, a vevőnek kell azt bizonyítani, hogy eltért a mintátó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610920" y="178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ajta-mennyiség szerint meghatározott dolog határidős adás-véte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aját termelésű mezőgazdasági áru szolgáltatására (későbbi időpontra) kötött adásvételi szerződé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vő közreműködésével előállított mezőgazdasági áru szolgáltatására kötött adásvételi szerződé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title"/>
          </p:nvPr>
        </p:nvSpPr>
        <p:spPr>
          <a:xfrm>
            <a:off x="250560" y="3553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00"/>
                </a:solidFill>
                <a:latin typeface="Arial"/>
              </a:rPr>
              <a:t>Adásvételi szerződés </a:t>
            </a:r>
            <a:r>
              <a:rPr b="0" lang="hu-HU" sz="4000" spc="-1" strike="noStrike">
                <a:solidFill>
                  <a:srgbClr val="3f3f3f"/>
                </a:solidFill>
                <a:latin typeface="Arial"/>
              </a:rPr>
              <a:t>altípusai</a:t>
            </a:r>
            <a:r>
              <a:rPr b="0" lang="hu-HU" sz="4000" spc="-1" strike="noStrike">
                <a:solidFill>
                  <a:srgbClr val="ffcc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2"/>
          <p:cNvSpPr/>
          <p:nvPr/>
        </p:nvSpPr>
        <p:spPr>
          <a:xfrm>
            <a:off x="1066680" y="1162080"/>
            <a:ext cx="75438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ÁLLALKOZÓ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Rectangle 3"/>
          <p:cNvSpPr/>
          <p:nvPr/>
        </p:nvSpPr>
        <p:spPr>
          <a:xfrm>
            <a:off x="1258920" y="1916280"/>
            <a:ext cx="73515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evékenység végzésének feltételeit úgy köteles szervezni, hogy ezzel biztosítsa a tevékenység biztonságos, szakszerű, gazdaságos és határidőre történő befejezésé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iztosítja az anyagot </a:t>
            </a:r>
            <a:r>
              <a:rPr b="0" lang="hu-HU" sz="1100" spc="-1" strike="noStrike">
                <a:solidFill>
                  <a:srgbClr val="000000"/>
                </a:solidFill>
                <a:latin typeface="Arial"/>
              </a:rPr>
              <a:t>(meg lehet állapodni másképpen is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igyelmeztetési kötelezettsé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zálogjoga v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00"/>
                </a:solidFill>
                <a:latin typeface="Arial"/>
              </a:rPr>
              <a:t>CS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684000" y="1916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agánszemélyek vagy más között realizálódhat, mint </a:t>
            </a:r>
            <a:r>
              <a:rPr b="0" lang="hu-HU" sz="1600" spc="-1" strike="noStrike">
                <a:solidFill>
                  <a:srgbClr val="ff9933"/>
                </a:solidFill>
                <a:latin typeface="Arial"/>
              </a:rPr>
              <a:t>ingyenes jogügyl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jándékozó és az ajándékozott között </a:t>
            </a:r>
            <a:r>
              <a:rPr b="0" lang="hu-HU" sz="1600" spc="-1" strike="noStrike">
                <a:solidFill>
                  <a:srgbClr val="ff9933"/>
                </a:solidFill>
                <a:latin typeface="Arial"/>
              </a:rPr>
              <a:t>megváltozik a kapcsolat: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 ilyenkor nem terheli ajánlati kötöttség az ajándékozót, vagy nem terheli kötöttség abban a tekintetben, hogy birtokba bocsássa a megajándékozott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9933"/>
                </a:solidFill>
                <a:latin typeface="Arial"/>
              </a:rPr>
              <a:t>VISSZAKÖVETELHETŐ: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- ajándékozó létfenntartása veszélybe kerül, de nem köteles a másik fél visszaadni az ajándékot, hogyha a visszaadással ő kerül ugyanolyan nehéz helyzetb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jándékozott vagy a vele együtt élő hozzátartozója súlyos jogsértést követ 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éves feltevésben v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f3f3f"/>
                </a:solidFill>
                <a:latin typeface="Arial"/>
              </a:rPr>
              <a:t>Szokásos ajándék nem követelhető vissza !!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title"/>
          </p:nvPr>
        </p:nvSpPr>
        <p:spPr>
          <a:xfrm>
            <a:off x="323640" y="398160"/>
            <a:ext cx="75438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00"/>
                </a:solidFill>
                <a:latin typeface="Arial"/>
              </a:rPr>
              <a:t>AJÁNDÉKOZÁSI SZERZŐD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0" y="69228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ff9933"/>
                </a:solidFill>
                <a:latin typeface="Arial"/>
              </a:rPr>
              <a:t>HASZNÁLATI SZERZŐDÉSEK</a:t>
            </a:r>
            <a:r>
              <a:rPr b="1" lang="hu-HU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Bér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Lakásbér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Haszonbér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Arial"/>
              </a:rPr>
              <a:t>Haszonkölcsön szerző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Dia számának helye 5"/>
          <p:cNvSpPr/>
          <p:nvPr/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460E-D62E-4F0A-9C02-253CA99B3FFA}" type="slidenum">
              <a:rPr b="0" lang="hu-HU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-360" y="1557000"/>
            <a:ext cx="95504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9933"/>
                </a:solidFill>
                <a:latin typeface="Arial"/>
              </a:rPr>
              <a:t>Időtartam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bérlet mindig rövidebb időre kötött,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aszonbérlet hosszabb idej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9933"/>
                </a:solidFill>
                <a:latin typeface="Arial"/>
              </a:rPr>
              <a:t>Szavatolás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mindkét típusú szerződésnél a bérbeadó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avatolja, hogy a szerződés időtartama alatt a bérlet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ndeltetésszerűen használható legy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title"/>
          </p:nvPr>
        </p:nvSpPr>
        <p:spPr>
          <a:xfrm>
            <a:off x="394920" y="299520"/>
            <a:ext cx="75438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Bérlet </a:t>
            </a:r>
            <a:r>
              <a:rPr b="0" lang="hu-HU" sz="36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s haszonbér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12600" y="1263240"/>
            <a:ext cx="91440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9933"/>
                </a:solidFill>
                <a:latin typeface="Arial"/>
              </a:rPr>
              <a:t>Használa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: mindkét esetben csak a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ndeltetésének megfelelően tehetik ezt meg,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s nem alakíthatják át a bérbeadó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ozzájárulása nélk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9933"/>
                </a:solidFill>
                <a:latin typeface="Arial"/>
              </a:rPr>
              <a:t>Átengedés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érlő a bérbeadó hozzájárulásával átengedheti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ásnak a használat jogát, ennek hiányában az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setleges kárért úgy felel, mintha saját maga okozta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ol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640" y="879480"/>
            <a:ext cx="835164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9933"/>
                </a:solidFill>
                <a:latin typeface="Arial"/>
              </a:rPr>
              <a:t>A szerződés alakja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bérleti szerződésnél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élszerű az írásbeliség, de csak a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szonbérleti szerződésnél kötelez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9933"/>
                </a:solidFill>
                <a:latin typeface="Arial"/>
              </a:rPr>
              <a:t>Költségviselés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kettőnél a szokásos fenntartási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ltségeket a bérlő viseli, a rendkívüli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ltségeket a bérletnél a bérbeadó vise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250920" y="1247400"/>
            <a:ext cx="864216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9933"/>
                </a:solidFill>
                <a:latin typeface="Arial"/>
              </a:rPr>
              <a:t>Közterhek: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Ptk. nem rendezi, hogy ki viselje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Régen a bérleti szerződésnél a bérbeadó viselte a közterheket, haszonbérletnél pedig a haszon-bérbevevő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9933"/>
                </a:solidFill>
                <a:latin typeface="Arial"/>
              </a:rPr>
              <a:t>Bérleti díj: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bérletnél mindig előre kell fizetni, a haszonbérletnél pedig mindig utólag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OK:mg-i területnél előfordul, hogy nem terem meg az a mennyiség, amit vártak, vagy amennyi a szerződésbe volt, és akkor ebben az esetben díjcsökkentés kérhető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33"/>
                </a:solidFill>
                <a:latin typeface="Arial"/>
              </a:rPr>
              <a:t>Zálogjog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mind a kettőnél van zálogjog, hiszen abban az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setben, ha bérleti-, haszonbérleti díját nem fizeti ki a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érbevevő vagy a haszonbérbevevő, akkor a bérbeadónak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zálogjoga keletkez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(Ha a bérlő kifogásolja azt, hogy zálogként ott tartja a bérbeadó a dolgot, akkor 8 napon belül </a:t>
            </a:r>
            <a:br>
              <a:rPr sz="1600"/>
            </a:br>
            <a:r>
              <a:rPr b="0" i="1" lang="hu-HU" sz="1600" spc="-1" strike="noStrike">
                <a:solidFill>
                  <a:srgbClr val="000000"/>
                </a:solidFill>
                <a:latin typeface="Arial"/>
              </a:rPr>
              <a:t>lehetőség van kifogás megtételére. Új rendelkezés, hogy kifogás esetén a bérbeadó köteles bírói útra térni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33"/>
                </a:solidFill>
                <a:latin typeface="Arial"/>
              </a:rPr>
              <a:t>Bérelt dolog megtekintés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két esetben tűrni kell azt, hogy az esetleges következő bérlő vagy haszonbérlő megtekinthesse a bérlet tárgyá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933"/>
                </a:solidFill>
                <a:latin typeface="Arial"/>
              </a:rPr>
              <a:t>Átruházá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átruházásnál megmarad a bérlet, ennek ellenére lehet, hogy az új tulajdonos nem akarja fenntarta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-28440" y="1647720"/>
            <a:ext cx="892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orábban óvadéknak nevezte a Ptk., most csak </a:t>
            </a:r>
            <a:r>
              <a:rPr b="1" lang="hu-HU" sz="2000" spc="-1" strike="noStrike">
                <a:solidFill>
                  <a:srgbClr val="ff9933"/>
                </a:solidFill>
                <a:latin typeface="Arial"/>
              </a:rPr>
              <a:t>bérleti díj biztosítékának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azt, hogy a biztosítéka maximum 3 hónap lehet, ha több, akkor a sérelmet szenvedő fél bírósághoz fordulh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akás bérbeadójának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arbantartási kötelezettség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érlőnek </a:t>
            </a:r>
            <a:r>
              <a:rPr b="0" lang="hu-HU" sz="2000" spc="-1" strike="noStrike">
                <a:solidFill>
                  <a:srgbClr val="ff9933"/>
                </a:solidFill>
                <a:latin typeface="Arial"/>
              </a:rPr>
              <a:t>elviteli jog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van ( távozik a lakásból, a bérleményből, akkor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viheti mindazokat a dolgokat, amelyet saját maga felszerelt, beszerel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a bérbeadó </a:t>
            </a:r>
            <a:r>
              <a:rPr b="1" lang="hu-HU" sz="2000" spc="-1" strike="noStrike">
                <a:solidFill>
                  <a:srgbClr val="ff9933"/>
                </a:solidFill>
                <a:latin typeface="Arial"/>
              </a:rPr>
              <a:t>állagmegóvás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kar végezni a lakáson, ingatlanon, akkor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érlőnek tűrnie kell. Ugyanakkor, ha ez az állagmegóvás vagy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arbantartás olyan természetű, hogy arra az időre nem tudja a bérlő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sználni a lakóingatlant, akkor arra az időre nem köteles bért fizet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title"/>
          </p:nvPr>
        </p:nvSpPr>
        <p:spPr>
          <a:xfrm>
            <a:off x="-541800" y="1904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00"/>
                </a:solidFill>
                <a:latin typeface="Arial"/>
              </a:rPr>
              <a:t>Lakásbérlet</a:t>
            </a:r>
            <a:r>
              <a:rPr b="0" i="1" lang="hu-HU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8000" y="1916280"/>
            <a:ext cx="85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3200" spc="-1" strike="noStrike">
                <a:solidFill>
                  <a:srgbClr val="ff9933"/>
                </a:solidFill>
                <a:latin typeface="Arial"/>
              </a:rPr>
              <a:t>rendes felmondás – határozott időnél -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ónap 15-ig kell közölni, a következő hónap végére (tehát gyakorlatilag másfél hónap az időtartam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2"/>
          <p:cNvSpPr/>
          <p:nvPr/>
        </p:nvSpPr>
        <p:spPr>
          <a:xfrm>
            <a:off x="0" y="1184400"/>
            <a:ext cx="880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RENDEL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417600" y="2448000"/>
            <a:ext cx="8424720" cy="28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dokol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hu-HU" sz="1400" spc="-1" strike="noStrike">
                <a:solidFill>
                  <a:srgbClr val="ff9933"/>
                </a:solidFill>
                <a:latin typeface="Arial"/>
              </a:rPr>
              <a:t>öbbletmunká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vagy </a:t>
            </a:r>
            <a:r>
              <a:rPr b="0" i="1" lang="hu-HU" sz="1400" spc="-1" strike="noStrike">
                <a:solidFill>
                  <a:srgbClr val="ff9933"/>
                </a:solidFill>
                <a:latin typeface="Arial"/>
              </a:rPr>
              <a:t>pótmunkát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amely nem volt a tervben, de indokol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ki kell fizetn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tasítási jo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</a:t>
            </a:r>
            <a:r>
              <a:rPr b="0" i="1" lang="hu-HU" sz="1400" spc="-1" strike="noStrike">
                <a:solidFill>
                  <a:srgbClr val="ff9933"/>
                </a:solidFill>
                <a:latin typeface="Arial"/>
              </a:rPr>
              <a:t>végzésének a helyét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ijelöli, biztosítja a helyszí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folyamatos </a:t>
            </a:r>
            <a:r>
              <a:rPr b="0" i="1" lang="hu-HU" sz="1400" spc="-1" strike="noStrike">
                <a:solidFill>
                  <a:srgbClr val="ff9933"/>
                </a:solidFill>
                <a:latin typeface="Arial"/>
              </a:rPr>
              <a:t>ellenőrzési jog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unkavégzést köteles </a:t>
            </a:r>
            <a:r>
              <a:rPr b="0" i="1" lang="hu-HU" sz="1400" spc="-1" strike="noStrike">
                <a:solidFill>
                  <a:srgbClr val="ff9933"/>
                </a:solidFill>
                <a:latin typeface="Arial"/>
              </a:rPr>
              <a:t>összehangolni</a:t>
            </a:r>
            <a:r>
              <a:rPr b="0" lang="hu-HU" sz="1400" spc="-1" strike="noStrike">
                <a:solidFill>
                  <a:srgbClr val="ff9933"/>
                </a:solidFill>
                <a:latin typeface="Arial"/>
              </a:rPr>
              <a:t> h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öbb vállalkozó dolgozik ugyanazon a létesítmény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pic>
        <p:nvPicPr>
          <p:cNvPr id="861" name="Kép 10" descr="7.gif"/>
          <p:cNvPicPr/>
          <p:nvPr/>
        </p:nvPicPr>
        <p:blipFill>
          <a:blip r:embed="rId1"/>
          <a:srcRect l="11382" t="36761" r="10339" b="11538"/>
          <a:stretch/>
        </p:blipFill>
        <p:spPr>
          <a:xfrm>
            <a:off x="900000" y="1690560"/>
            <a:ext cx="7201080" cy="453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2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Rendes felmondás határozatlan időre </a:t>
            </a:r>
            <a:br>
              <a:rPr sz="3600"/>
            </a:b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kötöttné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107640" y="1647720"/>
            <a:ext cx="92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Örökösök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30 napon belül rendes felmondással megszüntethetik a bérleti szerződé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250920" y="184464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lyen fontos szerződések vannak mé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1599840" y="476280"/>
            <a:ext cx="75438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9933"/>
                </a:solidFill>
                <a:latin typeface="Arial"/>
              </a:rPr>
              <a:t>Franchise </a:t>
            </a:r>
            <a:r>
              <a:rPr b="1" lang="hu-HU" sz="3200" spc="-1" strike="noStrike">
                <a:solidFill>
                  <a:srgbClr val="ffcc00"/>
                </a:solidFill>
                <a:latin typeface="Arial"/>
              </a:rPr>
              <a:t>(jogbérleti)</a:t>
            </a:r>
            <a:r>
              <a:rPr b="0" lang="hu-HU" sz="3200" spc="-1" strike="noStrike">
                <a:solidFill>
                  <a:srgbClr val="ff9933"/>
                </a:solidFill>
                <a:latin typeface="Arial"/>
              </a:rPr>
              <a:t> szerződ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9933"/>
                </a:solidFill>
                <a:latin typeface="Arial"/>
              </a:rPr>
              <a:t>Biztosítéki szerződés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ezességi szerződ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aranciaszerződ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Arial"/>
              <a:ea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9933"/>
                </a:solidFill>
                <a:latin typeface="Arial"/>
              </a:rPr>
              <a:t>Hitel- és számlaszerződés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684360" y="1647720"/>
            <a:ext cx="806436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hitelszerződé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kölcsönszerződé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betétszerződé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olyószámla-szerződé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izetésiszámla-szerződé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izetési megbízási szerződé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faktoring szerződé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énzügyi lízing szerződé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3"/>
          <p:cNvSpPr/>
          <p:nvPr/>
        </p:nvSpPr>
        <p:spPr>
          <a:xfrm>
            <a:off x="345960" y="2125800"/>
            <a:ext cx="8569440" cy="31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ff9933"/>
                </a:solidFill>
                <a:latin typeface="Arial"/>
              </a:rPr>
              <a:t>vállalkozói díj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mikor kell fizetni? (benne munkadíj + anyagköltsé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kezdésig </a:t>
            </a:r>
            <a:r>
              <a:rPr b="1" lang="hu-HU" sz="1800" spc="-1" strike="noStrike">
                <a:solidFill>
                  <a:srgbClr val="ff9933"/>
                </a:solidFill>
                <a:latin typeface="Arial"/>
              </a:rPr>
              <a:t>elállhat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ez követően felmondás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ladéktalan </a:t>
            </a:r>
            <a:r>
              <a:rPr b="1" lang="hu-HU" sz="1800" spc="-1" strike="noStrike">
                <a:solidFill>
                  <a:srgbClr val="ff9933"/>
                </a:solidFill>
                <a:latin typeface="Arial"/>
              </a:rPr>
              <a:t>megvizsgálás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ötelezettsé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a a produktum nem teljes értékű, viszont nem akadályozza a rendeltetésszerű használatot, akkor </a:t>
            </a:r>
            <a:r>
              <a:rPr b="1" lang="hu-HU" sz="1800" spc="-1" strike="noStrike">
                <a:solidFill>
                  <a:srgbClr val="ff9933"/>
                </a:solidFill>
                <a:latin typeface="Arial"/>
              </a:rPr>
              <a:t>át kell venn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itle 2"/>
          <p:cNvSpPr/>
          <p:nvPr/>
        </p:nvSpPr>
        <p:spPr>
          <a:xfrm>
            <a:off x="3564000" y="1125360"/>
            <a:ext cx="5580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Vállalkozási szerződ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Round Same Side Corner Rectangle 25"/>
          <p:cNvSpPr/>
          <p:nvPr/>
        </p:nvSpPr>
        <p:spPr>
          <a:xfrm rot="16200000">
            <a:off x="5961600" y="-529200"/>
            <a:ext cx="540000" cy="5211720"/>
          </a:xfrm>
          <a:custGeom>
            <a:avLst/>
            <a:gdLst/>
            <a:ahLst/>
            <a:rect l="l" t="t" r="r" b="b"/>
            <a:pathLst>
              <a:path w="540000" h="5211958">
                <a:moveTo>
                  <a:pt x="270000" y="0"/>
                </a:moveTo>
                <a:lnTo>
                  <a:pt x="270000" y="0"/>
                </a:lnTo>
                <a:cubicBezTo>
                  <a:pt x="419117" y="0"/>
                  <a:pt x="540000" y="120883"/>
                  <a:pt x="540000" y="270000"/>
                </a:cubicBezTo>
                <a:lnTo>
                  <a:pt x="540000" y="5211958"/>
                </a:lnTo>
                <a:lnTo>
                  <a:pt x="540000" y="5211958"/>
                </a:lnTo>
                <a:lnTo>
                  <a:pt x="0" y="5211958"/>
                </a:lnTo>
                <a:lnTo>
                  <a:pt x="0" y="5211958"/>
                </a:lnTo>
                <a:lnTo>
                  <a:pt x="0" y="270000"/>
                </a:lnTo>
                <a:cubicBezTo>
                  <a:pt x="0" y="120883"/>
                  <a:pt x="120883" y="0"/>
                  <a:pt x="270000" y="0"/>
                </a:cubicBezTo>
                <a:close/>
              </a:path>
            </a:pathLst>
          </a:custGeom>
          <a:solidFill>
            <a:srgbClr val="2b8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Oval 26"/>
          <p:cNvSpPr/>
          <p:nvPr/>
        </p:nvSpPr>
        <p:spPr>
          <a:xfrm>
            <a:off x="3763800" y="1901880"/>
            <a:ext cx="468360" cy="468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Box 8"/>
          <p:cNvSpPr/>
          <p:nvPr/>
        </p:nvSpPr>
        <p:spPr>
          <a:xfrm>
            <a:off x="3812040" y="1967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a1eb"/>
                </a:solidFill>
                <a:latin typeface="Arial"/>
                <a:ea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Round Same Side Corner Rectangle 22"/>
          <p:cNvSpPr/>
          <p:nvPr/>
        </p:nvSpPr>
        <p:spPr>
          <a:xfrm rot="16200000">
            <a:off x="6016680" y="201240"/>
            <a:ext cx="539640" cy="5102280"/>
          </a:xfrm>
          <a:custGeom>
            <a:avLst/>
            <a:gdLst/>
            <a:ahLst/>
            <a:rect l="l" t="t" r="r" b="b"/>
            <a:pathLst>
              <a:path w="540000" h="5102379">
                <a:moveTo>
                  <a:pt x="270000" y="0"/>
                </a:moveTo>
                <a:lnTo>
                  <a:pt x="270000" y="0"/>
                </a:lnTo>
                <a:cubicBezTo>
                  <a:pt x="419117" y="0"/>
                  <a:pt x="540000" y="120883"/>
                  <a:pt x="540000" y="270000"/>
                </a:cubicBezTo>
                <a:lnTo>
                  <a:pt x="540000" y="5102379"/>
                </a:lnTo>
                <a:lnTo>
                  <a:pt x="540000" y="5102379"/>
                </a:lnTo>
                <a:lnTo>
                  <a:pt x="0" y="5102379"/>
                </a:lnTo>
                <a:lnTo>
                  <a:pt x="0" y="5102379"/>
                </a:lnTo>
                <a:lnTo>
                  <a:pt x="0" y="270000"/>
                </a:lnTo>
                <a:cubicBezTo>
                  <a:pt x="0" y="120883"/>
                  <a:pt x="120883" y="0"/>
                  <a:pt x="270000" y="0"/>
                </a:cubicBezTo>
                <a:close/>
              </a:path>
            </a:pathLst>
          </a:custGeom>
          <a:solidFill>
            <a:srgbClr val="2b8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Oval 23"/>
          <p:cNvSpPr/>
          <p:nvPr/>
        </p:nvSpPr>
        <p:spPr>
          <a:xfrm>
            <a:off x="3941640" y="2511360"/>
            <a:ext cx="468360" cy="468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TextBox 12"/>
          <p:cNvSpPr/>
          <p:nvPr/>
        </p:nvSpPr>
        <p:spPr>
          <a:xfrm>
            <a:off x="3945240" y="253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a1eb"/>
                </a:solidFill>
                <a:latin typeface="Arial"/>
                <a:ea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Round Same Side Corner Rectangle 19"/>
          <p:cNvSpPr/>
          <p:nvPr/>
        </p:nvSpPr>
        <p:spPr>
          <a:xfrm rot="16200000">
            <a:off x="6030000" y="816120"/>
            <a:ext cx="539640" cy="5075280"/>
          </a:xfrm>
          <a:custGeom>
            <a:avLst/>
            <a:gdLst/>
            <a:ahLst/>
            <a:rect l="l" t="t" r="r" b="b"/>
            <a:pathLst>
              <a:path w="540000" h="5075043">
                <a:moveTo>
                  <a:pt x="270000" y="0"/>
                </a:moveTo>
                <a:lnTo>
                  <a:pt x="270000" y="0"/>
                </a:lnTo>
                <a:cubicBezTo>
                  <a:pt x="419117" y="0"/>
                  <a:pt x="540000" y="120883"/>
                  <a:pt x="540000" y="270000"/>
                </a:cubicBezTo>
                <a:lnTo>
                  <a:pt x="540000" y="5075043"/>
                </a:lnTo>
                <a:lnTo>
                  <a:pt x="540000" y="5075043"/>
                </a:lnTo>
                <a:lnTo>
                  <a:pt x="0" y="5075043"/>
                </a:lnTo>
                <a:lnTo>
                  <a:pt x="0" y="5075043"/>
                </a:lnTo>
                <a:lnTo>
                  <a:pt x="0" y="270000"/>
                </a:lnTo>
                <a:cubicBezTo>
                  <a:pt x="0" y="120883"/>
                  <a:pt x="120883" y="0"/>
                  <a:pt x="270000" y="0"/>
                </a:cubicBezTo>
                <a:close/>
              </a:path>
            </a:pathLst>
          </a:custGeom>
          <a:solidFill>
            <a:srgbClr val="2b8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Oval 20"/>
          <p:cNvSpPr/>
          <p:nvPr/>
        </p:nvSpPr>
        <p:spPr>
          <a:xfrm>
            <a:off x="3865680" y="3133800"/>
            <a:ext cx="468360" cy="468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TextBox 16"/>
          <p:cNvSpPr/>
          <p:nvPr/>
        </p:nvSpPr>
        <p:spPr>
          <a:xfrm>
            <a:off x="3893040" y="3214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a1eb"/>
                </a:solidFill>
                <a:latin typeface="Arial"/>
                <a:ea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Round Same Side Corner Rectangle 16"/>
          <p:cNvSpPr/>
          <p:nvPr/>
        </p:nvSpPr>
        <p:spPr>
          <a:xfrm rot="16200000">
            <a:off x="6010920" y="1422720"/>
            <a:ext cx="539640" cy="5113440"/>
          </a:xfrm>
          <a:custGeom>
            <a:avLst/>
            <a:gdLst/>
            <a:ahLst/>
            <a:rect l="l" t="t" r="r" b="b"/>
            <a:pathLst>
              <a:path w="540000" h="5113500">
                <a:moveTo>
                  <a:pt x="270000" y="0"/>
                </a:moveTo>
                <a:lnTo>
                  <a:pt x="270000" y="0"/>
                </a:lnTo>
                <a:cubicBezTo>
                  <a:pt x="419117" y="0"/>
                  <a:pt x="540000" y="120883"/>
                  <a:pt x="540000" y="270000"/>
                </a:cubicBezTo>
                <a:lnTo>
                  <a:pt x="540000" y="5113500"/>
                </a:lnTo>
                <a:lnTo>
                  <a:pt x="540000" y="5113500"/>
                </a:lnTo>
                <a:lnTo>
                  <a:pt x="0" y="5113500"/>
                </a:lnTo>
                <a:lnTo>
                  <a:pt x="0" y="5113500"/>
                </a:lnTo>
                <a:lnTo>
                  <a:pt x="0" y="270000"/>
                </a:lnTo>
                <a:cubicBezTo>
                  <a:pt x="0" y="120883"/>
                  <a:pt x="120883" y="0"/>
                  <a:pt x="270000" y="0"/>
                </a:cubicBezTo>
                <a:close/>
              </a:path>
            </a:pathLst>
          </a:custGeom>
          <a:solidFill>
            <a:srgbClr val="2b8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Oval 17"/>
          <p:cNvSpPr/>
          <p:nvPr/>
        </p:nvSpPr>
        <p:spPr>
          <a:xfrm>
            <a:off x="3875040" y="3745080"/>
            <a:ext cx="468360" cy="46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TextBox 20"/>
          <p:cNvSpPr/>
          <p:nvPr/>
        </p:nvSpPr>
        <p:spPr>
          <a:xfrm>
            <a:off x="3873960" y="380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a1eb"/>
                </a:solidFill>
                <a:latin typeface="Arial"/>
                <a:ea typeface="Arial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Round Same Side Corner Rectangle 13"/>
          <p:cNvSpPr/>
          <p:nvPr/>
        </p:nvSpPr>
        <p:spPr>
          <a:xfrm rot="16200000">
            <a:off x="5992560" y="1998000"/>
            <a:ext cx="539640" cy="5222880"/>
          </a:xfrm>
          <a:custGeom>
            <a:avLst/>
            <a:gdLst/>
            <a:ahLst/>
            <a:rect l="l" t="t" r="r" b="b"/>
            <a:pathLst>
              <a:path w="540000" h="5223006">
                <a:moveTo>
                  <a:pt x="270000" y="0"/>
                </a:moveTo>
                <a:lnTo>
                  <a:pt x="270000" y="0"/>
                </a:lnTo>
                <a:cubicBezTo>
                  <a:pt x="419117" y="0"/>
                  <a:pt x="540000" y="120883"/>
                  <a:pt x="540000" y="270000"/>
                </a:cubicBezTo>
                <a:lnTo>
                  <a:pt x="540000" y="5223006"/>
                </a:lnTo>
                <a:lnTo>
                  <a:pt x="540000" y="5223006"/>
                </a:lnTo>
                <a:lnTo>
                  <a:pt x="0" y="5223006"/>
                </a:lnTo>
                <a:lnTo>
                  <a:pt x="0" y="5223006"/>
                </a:lnTo>
                <a:lnTo>
                  <a:pt x="0" y="270000"/>
                </a:lnTo>
                <a:cubicBezTo>
                  <a:pt x="0" y="120883"/>
                  <a:pt x="120883" y="0"/>
                  <a:pt x="270000" y="0"/>
                </a:cubicBezTo>
                <a:close/>
              </a:path>
            </a:pathLst>
          </a:custGeom>
          <a:solidFill>
            <a:srgbClr val="2b8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Oval 14"/>
          <p:cNvSpPr/>
          <p:nvPr/>
        </p:nvSpPr>
        <p:spPr>
          <a:xfrm>
            <a:off x="3751200" y="4395960"/>
            <a:ext cx="468360" cy="46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TextBox 24"/>
          <p:cNvSpPr/>
          <p:nvPr/>
        </p:nvSpPr>
        <p:spPr>
          <a:xfrm>
            <a:off x="3769200" y="44528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a1eb"/>
                </a:solidFill>
                <a:latin typeface="Arial"/>
                <a:ea typeface="Arial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TextBox 25"/>
          <p:cNvSpPr/>
          <p:nvPr/>
        </p:nvSpPr>
        <p:spPr>
          <a:xfrm>
            <a:off x="4484520" y="1968480"/>
            <a:ext cx="41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  <a:ea typeface="Arial"/>
              </a:rPr>
              <a:t>Tervezés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TextBox 26"/>
          <p:cNvSpPr/>
          <p:nvPr/>
        </p:nvSpPr>
        <p:spPr>
          <a:xfrm>
            <a:off x="4538520" y="2595600"/>
            <a:ext cx="41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  <a:ea typeface="Arial"/>
              </a:rPr>
              <a:t>Kivitelezés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TextBox 27"/>
          <p:cNvSpPr/>
          <p:nvPr/>
        </p:nvSpPr>
        <p:spPr>
          <a:xfrm>
            <a:off x="4589640" y="3168720"/>
            <a:ext cx="39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  <a:ea typeface="Arial"/>
              </a:rPr>
              <a:t>Kutatás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TextBox 28"/>
          <p:cNvSpPr/>
          <p:nvPr/>
        </p:nvSpPr>
        <p:spPr>
          <a:xfrm>
            <a:off x="4624560" y="3800520"/>
            <a:ext cx="413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  <a:ea typeface="Arial"/>
              </a:rPr>
              <a:t>Utazás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TextBox 29"/>
          <p:cNvSpPr/>
          <p:nvPr/>
        </p:nvSpPr>
        <p:spPr>
          <a:xfrm>
            <a:off x="4410000" y="4411800"/>
            <a:ext cx="41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  <a:ea typeface="Arial"/>
              </a:rPr>
              <a:t>Mezőgazdasági vállalkozás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4" name="Kép 29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8532720" y="5481720"/>
            <a:ext cx="432000" cy="455400"/>
          </a:xfrm>
          <a:prstGeom prst="rect">
            <a:avLst/>
          </a:prstGeom>
          <a:ln w="0">
            <a:noFill/>
          </a:ln>
        </p:spPr>
      </p:pic>
      <p:sp>
        <p:nvSpPr>
          <p:cNvPr id="725" name="Round Same Side Corner Rectangle 25"/>
          <p:cNvSpPr/>
          <p:nvPr/>
        </p:nvSpPr>
        <p:spPr>
          <a:xfrm rot="16200000">
            <a:off x="5922000" y="2543400"/>
            <a:ext cx="539640" cy="5364000"/>
          </a:xfrm>
          <a:custGeom>
            <a:avLst/>
            <a:gdLst/>
            <a:ahLst/>
            <a:rect l="l" t="t" r="r" b="b"/>
            <a:pathLst>
              <a:path w="540000" h="5364089">
                <a:moveTo>
                  <a:pt x="270000" y="0"/>
                </a:moveTo>
                <a:lnTo>
                  <a:pt x="270000" y="0"/>
                </a:lnTo>
                <a:cubicBezTo>
                  <a:pt x="419117" y="0"/>
                  <a:pt x="540000" y="120883"/>
                  <a:pt x="540000" y="270000"/>
                </a:cubicBezTo>
                <a:lnTo>
                  <a:pt x="540000" y="5364089"/>
                </a:lnTo>
                <a:lnTo>
                  <a:pt x="540000" y="5364089"/>
                </a:lnTo>
                <a:lnTo>
                  <a:pt x="0" y="5364089"/>
                </a:lnTo>
                <a:lnTo>
                  <a:pt x="0" y="5364089"/>
                </a:lnTo>
                <a:lnTo>
                  <a:pt x="0" y="270000"/>
                </a:lnTo>
                <a:cubicBezTo>
                  <a:pt x="0" y="120883"/>
                  <a:pt x="120883" y="0"/>
                  <a:pt x="270000" y="0"/>
                </a:cubicBezTo>
                <a:close/>
              </a:path>
            </a:pathLst>
          </a:custGeom>
          <a:solidFill>
            <a:srgbClr val="2b8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Oval 14"/>
          <p:cNvSpPr/>
          <p:nvPr/>
        </p:nvSpPr>
        <p:spPr>
          <a:xfrm>
            <a:off x="3605040" y="4991040"/>
            <a:ext cx="627120" cy="468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26a1eb"/>
                </a:solidFill>
                <a:latin typeface="Arial"/>
                <a:ea typeface="Arial"/>
              </a:rPr>
              <a:t>0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TextBox 29"/>
          <p:cNvSpPr/>
          <p:nvPr/>
        </p:nvSpPr>
        <p:spPr>
          <a:xfrm>
            <a:off x="4486320" y="5064120"/>
            <a:ext cx="41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  <a:ea typeface="Arial"/>
              </a:rPr>
              <a:t>Közszolgáltatás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Round Same Side Corner Rectangle 25"/>
          <p:cNvSpPr/>
          <p:nvPr/>
        </p:nvSpPr>
        <p:spPr>
          <a:xfrm rot="16200000">
            <a:off x="5580720" y="3132360"/>
            <a:ext cx="539640" cy="5364000"/>
          </a:xfrm>
          <a:custGeom>
            <a:avLst/>
            <a:gdLst/>
            <a:ahLst/>
            <a:rect l="l" t="t" r="r" b="b"/>
            <a:pathLst>
              <a:path w="540000" h="5364089">
                <a:moveTo>
                  <a:pt x="270000" y="0"/>
                </a:moveTo>
                <a:lnTo>
                  <a:pt x="270000" y="0"/>
                </a:lnTo>
                <a:cubicBezTo>
                  <a:pt x="419117" y="0"/>
                  <a:pt x="540000" y="120883"/>
                  <a:pt x="540000" y="270000"/>
                </a:cubicBezTo>
                <a:lnTo>
                  <a:pt x="540000" y="5364089"/>
                </a:lnTo>
                <a:lnTo>
                  <a:pt x="540000" y="5364089"/>
                </a:lnTo>
                <a:lnTo>
                  <a:pt x="0" y="5364089"/>
                </a:lnTo>
                <a:lnTo>
                  <a:pt x="0" y="5364089"/>
                </a:lnTo>
                <a:lnTo>
                  <a:pt x="0" y="270000"/>
                </a:lnTo>
                <a:cubicBezTo>
                  <a:pt x="0" y="120883"/>
                  <a:pt x="120883" y="0"/>
                  <a:pt x="270000" y="0"/>
                </a:cubicBezTo>
                <a:close/>
              </a:path>
            </a:pathLst>
          </a:custGeom>
          <a:solidFill>
            <a:srgbClr val="2b8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3282840" y="5567400"/>
            <a:ext cx="627120" cy="468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26a1eb"/>
                </a:solidFill>
                <a:latin typeface="Arial"/>
                <a:ea typeface="Arial"/>
              </a:rPr>
              <a:t>0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TextBox 29"/>
          <p:cNvSpPr/>
          <p:nvPr/>
        </p:nvSpPr>
        <p:spPr>
          <a:xfrm>
            <a:off x="4462560" y="5672160"/>
            <a:ext cx="413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  <a:ea typeface="Arial"/>
              </a:rPr>
              <a:t>Fuvarozás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8459640" y="5343480"/>
            <a:ext cx="433440" cy="45576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2"/>
          <p:cNvSpPr/>
          <p:nvPr/>
        </p:nvSpPr>
        <p:spPr>
          <a:xfrm>
            <a:off x="755640" y="1197000"/>
            <a:ext cx="7543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33"/>
                </a:solidFill>
                <a:latin typeface="Arial"/>
              </a:rPr>
              <a:t>Fuvarozási szerződ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609480" y="1827000"/>
            <a:ext cx="8064720" cy="35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a fuvarozó köteles a küldeményt rendeltetési helyre </a:t>
            </a:r>
            <a:r>
              <a:rPr b="0" lang="hu-HU" sz="2000" spc="-1" strike="noStrike" u="sng">
                <a:solidFill>
                  <a:srgbClr val="ffff00"/>
                </a:solidFill>
                <a:uFillTx/>
                <a:latin typeface="Arial"/>
              </a:rPr>
              <a:t>továbbít</a:t>
            </a: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ani és a címzettnek átadni, a feladó </a:t>
            </a:r>
            <a:r>
              <a:rPr b="0" lang="hu-HU" sz="2000" spc="-1" strike="noStrike" u="sng">
                <a:solidFill>
                  <a:srgbClr val="ffff00"/>
                </a:solidFill>
                <a:uFillTx/>
                <a:latin typeface="Arial"/>
              </a:rPr>
              <a:t>fuvardíj</a:t>
            </a:r>
            <a:r>
              <a:rPr b="0" lang="hu-HU" sz="2000" spc="-1" strike="noStrike">
                <a:solidFill>
                  <a:srgbClr val="ffff00"/>
                </a:solidFill>
                <a:latin typeface="Arial"/>
              </a:rPr>
              <a:t>at fizet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onszenzuális szerződés: a fuvarozás elvállalásával jön lét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főszabá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incs formai kötött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2"/>
          <p:cNvSpPr/>
          <p:nvPr/>
        </p:nvSpPr>
        <p:spPr>
          <a:xfrm>
            <a:off x="539640" y="1268280"/>
            <a:ext cx="78184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UVARLEVÉ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941040" y="1758600"/>
            <a:ext cx="809460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adó utasítására köteles kiállítani, 1 példányt átadni (vagy átvételi elismervény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6:19:20Z</dcterms:created>
  <dc:creator>PSZFB</dc:creator>
  <dc:description/>
  <dc:language>en-US</dc:language>
  <cp:lastModifiedBy>Oktató</cp:lastModifiedBy>
  <dcterms:modified xsi:type="dcterms:W3CDTF">2020-09-24T14:54:13Z</dcterms:modified>
  <cp:revision>223</cp:revision>
  <dc:subject/>
  <dc:title>4. Témakör </dc:title>
</cp:coreProperties>
</file>